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B43-8A7F-4042-96A3-7BE24018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632-E7E0-4BC0-9E91-57A8042B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F3B-FBD3-4CBA-AB1D-04E6BEB9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7B9-FD8A-4BF2-8A49-1C074768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2DAB-783E-4A97-AC79-A1FEFB52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EA54-9623-4C94-8893-5AD6A0CA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01DD-1EF9-4DBA-9E13-AFB104F7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500C-A3B5-4DCD-85E8-588F9248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D1E7-C945-4B40-BB15-A9E698F2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4A09-E3A9-46E2-B426-EB52846C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A825-F2F6-42A0-89C5-76FED67B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865-7908-4F37-BA0D-850EB0ED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D178-2269-4167-AA73-71D11B18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4996-CEAD-4AB5-AFAC-1B808D27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9D12-04D2-4D05-9C36-C8AE745F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A3D1-B866-47E1-9E9E-E02AF11D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DBF3-92B6-4A33-BFA5-D5F4291A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BABF-9060-4031-91BE-5CC59E47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0F5-A260-44D8-AA68-9B48F763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8D9-19F2-4F3C-BB33-75C3907D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125-0D54-4DF5-9757-DAAD29D7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9A5-86C1-4947-A696-C06D1071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080-B476-4044-B640-5B21133F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8BA-8930-480D-9F09-DA3D8E53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CC57-21A0-4A7E-BF2A-BF3A4CEA56F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B643-A25D-4F7E-AB83-F95F37DA1A8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dicated to Community Serv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hool Year 2010-201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iving of ones time and talent, by choice, to help others in the communit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monetary compensation, grade, or academic cred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nting to help others and make a differ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3" descr="xmas drive.jpg"/>
          <p:cNvPicPr/>
          <p:nvPr/>
        </p:nvPicPr>
        <p:blipFill>
          <a:blip r:embed="rId2"/>
          <a:stretch/>
        </p:blipFill>
        <p:spPr>
          <a:xfrm>
            <a:off x="2514600" y="4114800"/>
            <a:ext cx="350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lping oth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iving back to your commun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hool related benefi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ight Futu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perintendant’s Diploma of Distin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lking in Whi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holarshi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w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2" descr="C:\Documents and Settings\cmmillig\Local Settings\Temporary Internet Files\Content.IE5\C5UV4HYJ\MC900353686[1].wmf"/>
          <p:cNvPicPr/>
          <p:nvPr/>
        </p:nvPicPr>
        <p:blipFill>
          <a:blip r:embed="rId2"/>
          <a:stretch/>
        </p:blipFill>
        <p:spPr>
          <a:xfrm>
            <a:off x="6324480" y="4114800"/>
            <a:ext cx="19465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ect a location that meets an identified community service with a public, non-profit agenc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agency should provide a safe, supervised environment and a volunteer job descrip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duties should be meaningful and provide a service to the commun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and your parent/guardian are solely responsible for selecting a community service loc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school: Clubs, peer tutoring, school ev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urch youth progra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ity Librar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nior Cent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alth Fai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th Organiz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FM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2" descr="C:\Documents and Settings\cmmillig\Local Settings\Temporary Internet Files\Content.IE5\4XYBG1M7\MC900297577[1].wmf"/>
          <p:cNvPicPr/>
          <p:nvPr/>
        </p:nvPicPr>
        <p:blipFill>
          <a:blip r:embed="rId2"/>
          <a:stretch/>
        </p:blipFill>
        <p:spPr>
          <a:xfrm>
            <a:off x="5486400" y="3581280"/>
            <a:ext cx="25909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th Partnership agree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UST BE COMPLETED BEFORE YOU START YOUR HOURS!!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th Partnership Program Sign in Shee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th Partnership Program Student/Parent Guidelin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PS tips for Student Volunteers bookl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3:39:57Z</dcterms:created>
  <dc:creator>cmmillig</dc:creator>
  <dc:description/>
  <dc:language>en-US</dc:language>
  <cp:lastModifiedBy>jkheifne</cp:lastModifiedBy>
  <dcterms:modified xsi:type="dcterms:W3CDTF">2010-07-29T14:35:06Z</dcterms:modified>
  <cp:revision>8</cp:revision>
  <dc:subject/>
  <dc:title>Medical Academy</dc:title>
</cp:coreProperties>
</file>